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B80-7F07-42D9-8836-3E796B32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41E-91E7-42A5-A473-34E1E7A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CCB-17EF-4F6F-8B0D-295E9BE7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24A-F3AA-4A7B-B03B-DCBBF217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1CC-E268-4172-8CA5-4699994E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019-F39C-4703-BD8A-30FD69B8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A61-E53E-4B2D-A86F-1DE01B26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FDC-52D9-44E3-9806-BB3D470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0B7-C7EA-4EDE-931C-4C76664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045-8CEE-4535-8E8C-457E3B10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0E2-644E-4E3D-9A1C-E1D6E71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40D9-4B55-4211-830C-1D2A84F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E79-BA76-42CC-83A0-8D7697E6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Year 6 Leavers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133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Comic Sans MS"/>
              </a:rPr>
              <a:t>Owlie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Mature Sense of Hum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ucy Anth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Imaginative and Creative Thin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Yelena Burgw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Sporting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eah Bu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All Round High Quality Perfo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Natasha J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Outstanding Performer in all Curriculum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Megan Bata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ff0000"/>
                </a:solidFill>
                <a:latin typeface="Comic Sans MS"/>
              </a:rPr>
              <a:t>Cheekiest Giggle and Outstanding Choreograph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Alana Ross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Year 6 Leavers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00"/>
                </a:solidFill>
                <a:latin typeface="Comic Sans MS"/>
              </a:rPr>
              <a:t>Owlie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2857320" cy="3305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92360" y="3357720"/>
            <a:ext cx="48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ongratulations to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Outstanding Music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Kat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Promising Future West End Perfor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Matthew Da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Courageous Dramatic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allum Bow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Talented Swimm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Sarah G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ost Dramatic Improvement made in Literacy in a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uc 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Dramatic Improvement in Mat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helsea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Improved Rea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Leonie J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The Owlie fo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4360" y="141300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Most Enthusiastic Environmental Scient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93372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And the winn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5013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Comic Sans MS"/>
              </a:rPr>
              <a:t>Corey Cole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4869000"/>
            <a:ext cx="16146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7:33:14Z</dcterms:created>
  <dc:creator>Roberts</dc:creator>
  <dc:description/>
  <dc:language>en-US</dc:language>
  <cp:lastModifiedBy>Roberts</cp:lastModifiedBy>
  <dcterms:modified xsi:type="dcterms:W3CDTF">2010-07-14T07:47:42Z</dcterms:modified>
  <cp:revision>2</cp:revision>
  <dc:subject/>
  <dc:title>Year 6 Leavers 2010</dc:title>
</cp:coreProperties>
</file>